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hyperlink" Target="http://www.armadillorun.com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hyperlink" Target="http://www.icue.com/" TargetMode="External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hyperlink" Target="http://www.upsidelearning.com/blog/index.php/2009/06/24/top-100-learning-game-resources/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hyperlink" Target="http://labyrinth.thinkport.org/www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hyperlink" Target="http://edugamesblog.wordpress.com/2007/12/15/the-top-10-free-educational-video-games/" TargetMode="External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hyperlink" Target="http://www.bbc.co.uk/schools/ks2bitesize/science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hyperlink" Target="http://facstaff.uww.edu/jonesd/games/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hyperlink" Target="http://people.uncw.edu/ertzbergerj/ppt_games.html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teacherweb.nixa.k12.mo.us/~zakhamby/TrojanWarGame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hyperlink" Target="http://www.funbrain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socialimpactgames.com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http://blog.missiontolearn.com/2008/04/learning-games-for-change/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85840" y="1584360"/>
            <a:ext cx="8132760" cy="1847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4344840"/>
            <a:ext cx="77263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ie Whi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or of Technology &amp;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80880" y="1412640"/>
            <a:ext cx="838224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 100 Learning Ga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upsidelearning.com/blog/index.php/2009/06/24/top-100-learning-game-resources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1 Free Gam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(Zaid Lear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zaidlearn.blogspot.com/2008/08/101-free-edugames.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1412640"/>
            <a:ext cx="8382240" cy="30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the National Arch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read the Declaration of Independence OR you can sign i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archives.gov/exhibits/charters/declaration.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 URL for the archives is http://www.archives.gov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80880" y="1412640"/>
            <a:ext cx="8382240" cy="66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hoose the Mo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echoosethemoon.or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L Hunley Sim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hunley.org  (Find the simulator under the “Submarine” ta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ce Central Simulations (Frog Dissection to Natural Selection and Evolution!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sciencecentral.com/category/6976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0880" y="1413000"/>
            <a:ext cx="838224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es allow children to relax, concentrate and enjoy learning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for remedi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resses various learning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fear of failure reduc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0880" y="6019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ssociatedcontent.com/article/71778/why_use_educational_gam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880" y="1412640"/>
            <a:ext cx="838224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madillo Run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adillo Run is a physics-based puzzle ga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4"/>
              </a:rPr>
              <a:t>http://www.armadillorun.com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 new media experience to support teaching and learning in AP U.S. History, AP Government and Politics - U.S., and English Language and Composi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7"/>
              </a:rPr>
              <a:t>http://www.icue.com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73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412640"/>
            <a:ext cx="838224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 100 Learning Game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3"/>
              </a:rPr>
              <a:t>http://www.upsidelearning.com/blog/index.php/2009/06/24/top-100-learning-game-resources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1412640"/>
            <a:ext cx="8382240" cy="67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uce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 online puzzle-adventure game for twee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ure of Labyrin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Lure of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byri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digital game for middle-school pre-algebra stud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6"/>
              </a:rPr>
              <a:t>http://labyrinth.thinkport.org/www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 Free Education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10"/>
              </a:rPr>
              <a:t>http://edugamesblog.wordpress.com/2007/12/15/the-top-10-free-educational-video-games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880" y="1412640"/>
            <a:ext cx="8382240" cy="18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tesize KS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Awesome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4"/>
              </a:rPr>
              <a:t>http://www.bbc.co.uk/schools/ks2bitesize/science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1412640"/>
            <a:ext cx="8382240" cy="32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de of Games in Power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4"/>
              </a:rPr>
              <a:t>http://facstaff.uww.edu/jonesd/games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Point Games and Game Templ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 u="sng">
                <a:solidFill>
                  <a:srgbClr val="1d4775"/>
                </a:solidFill>
                <a:uFillTx/>
                <a:latin typeface="Calibri"/>
                <a:hlinkClick r:id="rId8"/>
              </a:rPr>
              <a:t>http://people.uncw.edu/ertzbergerj/ppt_games.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80880" y="1412640"/>
            <a:ext cx="83822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ojan War G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1d4775"/>
                </a:solidFill>
                <a:uFillTx/>
                <a:latin typeface="Calibri"/>
                <a:hlinkClick r:id="rId2"/>
              </a:rPr>
              <a:t>http://teacherweb.nixa.k12.mo.us/~zakhamby/TrojanWarGame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80880" y="1412640"/>
            <a:ext cx="8382240" cy="61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br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3200" spc="-1" strike="noStrike" u="sng">
                <a:solidFill>
                  <a:srgbClr val="1d4775"/>
                </a:solidFill>
                <a:uFillTx/>
                <a:latin typeface="Calibri"/>
                <a:hlinkClick r:id="rId3"/>
              </a:rPr>
              <a:t>http://www.funbrain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 Impact Gam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1d4775"/>
                </a:solidFill>
                <a:uFillTx/>
                <a:latin typeface="Calibri"/>
                <a:hlinkClick r:id="rId6"/>
              </a:rPr>
              <a:t>http://www.socialimpactgames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6 Learning Games to Change the World - </a:t>
            </a:r>
            <a:r>
              <a:rPr b="1" lang="en-US" sz="3200" spc="-1" strike="noStrike" u="sng">
                <a:solidFill>
                  <a:srgbClr val="1d4775"/>
                </a:solidFill>
                <a:uFillTx/>
                <a:latin typeface="Calibri"/>
                <a:hlinkClick r:id="rId9"/>
              </a:rPr>
              <a:t>http://blog.missiontolearn.com/2008/04/learning-games-for-change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6019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ssociatedcontent.com/article/71778/why_use_educational_game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1:35:22Z</dcterms:created>
  <dc:creator>Connie White</dc:creator>
  <dc:description/>
  <dc:language>en-US</dc:language>
  <cp:lastModifiedBy>Connie White</cp:lastModifiedBy>
  <dcterms:modified xsi:type="dcterms:W3CDTF">2009-07-28T17:53:03Z</dcterms:modified>
  <cp:revision>35</cp:revision>
  <dc:subject/>
  <dc:title>Using Games &amp; Simulations</dc:title>
</cp:coreProperties>
</file>